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14.png" ContentType="image/png"/>
  <Override PartName="/ppt/media/image1.pct" ContentType="image/x-pict"/>
  <Override PartName="/ppt/media/image2.pct" ContentType="image/x-pict"/>
  <Override PartName="/ppt/media/image8.jpeg" ContentType="image/jpeg"/>
  <Override PartName="/ppt/media/image5.png" ContentType="image/png"/>
  <Override PartName="/ppt/media/image10.png" ContentType="image/png"/>
  <Override PartName="/ppt/media/image3.jpeg" ContentType="image/jpeg"/>
  <Override PartName="/ppt/media/image4.pct" ContentType="image/x-pict"/>
  <Override PartName="/ppt/media/image7.png" ContentType="image/png"/>
  <Override PartName="/ppt/media/image12.png" ContentType="image/png"/>
  <Override PartName="/ppt/media/image6.png" ContentType="image/png"/>
  <Override PartName="/ppt/media/image11.png" ContentType="image/pn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10B8D-192E-4D0A-B7DD-422A900092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332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omains of Stud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3280" indent="-17280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omain of BioMolecu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3280" indent="-17280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omain of Cel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3280" indent="-17280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omain of Organis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3280" indent="-17280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omain of Population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3280" indent="-17280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omain of Commun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14040" y="4343400"/>
            <a:ext cx="5181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xygen has medium electronegativity so doesn’t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ull electron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 the way off hydrogen whereas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lorine would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 oxygen forms a polar covalent bon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rbon has only a weak electronegativity so forms a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npolar covalent bo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marL="177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th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mmetrical molecu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ads to some of its proper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rges are balanc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ads to little attraction between different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thane molecu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refore methane is a gas at room tempera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C9FCA2-5E8D-4922-A185-F94D32DC934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03D6F2-43B9-45F2-8EA5-B46795684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45F2EF-4AE0-440E-B1E2-C86F6D65D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5468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31900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99072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5468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31900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A03E4E-C32B-4AFF-914C-BD05D5FBD06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90720" y="1981080"/>
            <a:ext cx="7238880" cy="42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569747-CFD5-4FF5-9D8A-B4157F953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15468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31900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9072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15468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531900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8BFDBD-CFB5-4251-8571-E3ED73124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955E81-00C4-4EAF-870B-B87B2C684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814D9E-51C7-4803-B3F7-BA86F5971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990720" y="1981080"/>
            <a:ext cx="7238880" cy="42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52D621-5FB3-4217-BA61-389ABCC94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C79471-FAC8-485D-9979-4D52AFE5A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893B09-DE7D-4E70-B9B8-EBD9B264A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335F28-07FA-4822-9B86-F14B3D8D1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62160" y="6492600"/>
            <a:ext cx="533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40458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F65CD-CAEB-4469-A2F6-15E31E83C8D9}" type="slidenum">
              <a:rPr b="1" lang="en-US" sz="1200" spc="-1" strike="noStrike">
                <a:solidFill>
                  <a:srgbClr val="4045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80880" y="1219320"/>
            <a:ext cx="6324840" cy="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09480" y="914400"/>
            <a:ext cx="0" cy="259092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533520" y="1143000"/>
            <a:ext cx="152280" cy="152280"/>
          </a:xfrm>
          <a:prstGeom prst="ellipse">
            <a:avLst/>
          </a:prstGeom>
          <a:noFill/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f116a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"/>
            <a:ext cx="9144000" cy="76320"/>
          </a:xfrm>
          <a:prstGeom prst="rect">
            <a:avLst/>
          </a:pr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dt" idx="2"/>
          </p:nvPr>
        </p:nvSpPr>
        <p:spPr>
          <a:xfrm>
            <a:off x="6933960" y="626436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40458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2005-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228600" y="638460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</a:rPr>
              <a:t>AP Biology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3"/>
          </p:nvPr>
        </p:nvSpPr>
        <p:spPr>
          <a:xfrm>
            <a:off x="6933960" y="626436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40458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2005-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f116a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28600"/>
            <a:ext cx="9144000" cy="76320"/>
          </a:xfrm>
          <a:prstGeom prst="rect">
            <a:avLst/>
          </a:pr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380880" y="1523880"/>
            <a:ext cx="6324840" cy="2590920"/>
            <a:chOff x="380880" y="1523880"/>
            <a:chExt cx="6324840" cy="2590920"/>
          </a:xfrm>
        </p:grpSpPr>
        <p:sp>
          <p:nvSpPr>
            <p:cNvPr id="52" name=""/>
            <p:cNvSpPr/>
            <p:nvPr/>
          </p:nvSpPr>
          <p:spPr>
            <a:xfrm>
              <a:off x="380880" y="1828800"/>
              <a:ext cx="6324840" cy="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480" y="1523880"/>
              <a:ext cx="0" cy="259092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33520" y="1752480"/>
              <a:ext cx="152280" cy="152640"/>
            </a:xfrm>
            <a:prstGeom prst="ellipse">
              <a:avLst/>
            </a:prstGeom>
            <a:noFill/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2286000" y="2819520"/>
            <a:ext cx="6324480" cy="2590560"/>
            <a:chOff x="2286000" y="2819520"/>
            <a:chExt cx="6324480" cy="2590560"/>
          </a:xfrm>
        </p:grpSpPr>
        <p:sp>
          <p:nvSpPr>
            <p:cNvPr id="56" name=""/>
            <p:cNvSpPr/>
            <p:nvPr/>
          </p:nvSpPr>
          <p:spPr>
            <a:xfrm flipH="1">
              <a:off x="2286000" y="5105520"/>
              <a:ext cx="6324480" cy="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8382240" y="2819520"/>
              <a:ext cx="0" cy="259056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rot="10800000">
              <a:off x="8306280" y="5029560"/>
              <a:ext cx="151920" cy="152280"/>
            </a:xfrm>
            <a:prstGeom prst="ellipse">
              <a:avLst/>
            </a:prstGeom>
            <a:noFill/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59" name=""/>
          <p:cNvSpPr/>
          <p:nvPr/>
        </p:nvSpPr>
        <p:spPr>
          <a:xfrm>
            <a:off x="228600" y="638460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</a:rPr>
              <a:t>AP Biology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hyperlink" Target="file:///Users/kfoglia/Kim&apos;s%20NEW%20WORK/Division%20Ave%20-%20Levittown/%20Campbell%20CDs/BIOLOGY6eCIPLchapters1-17/ImageLibrary1-17/02-ChemicalContextOfLife/02-14-IonicBonds.mov" TargetMode="External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ct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hyperlink" Target="file:///Users/kfoglia/Kim&apos;s%20NEW%20WORK/Division%20Ave%20-%20Levittown/%20Campbell%20CDs/BIOLOGY6eCIPLchapters1-17/ImageLibrary1-17/02-ChemicalContextOfLife/02-12-CovalentBonds.mov" TargetMode="External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1066680"/>
            <a:ext cx="72388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116a"/>
                </a:solidFill>
                <a:latin typeface="Arial"/>
              </a:rPr>
              <a:t>Chapter 2.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The Chemical Context of Life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362320" y="3276720"/>
            <a:ext cx="4343400" cy="32572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6705720" y="399960"/>
            <a:ext cx="2336760" cy="17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"/>
          <p:cNvGrpSpPr/>
          <p:nvPr/>
        </p:nvGrpSpPr>
        <p:grpSpPr>
          <a:xfrm>
            <a:off x="5486400" y="1676520"/>
            <a:ext cx="3429000" cy="3352680"/>
            <a:chOff x="5486400" y="1676520"/>
            <a:chExt cx="3429000" cy="3352680"/>
          </a:xfrm>
        </p:grpSpPr>
        <p:sp>
          <p:nvSpPr>
            <p:cNvPr id="140" name=""/>
            <p:cNvSpPr/>
            <p:nvPr/>
          </p:nvSpPr>
          <p:spPr>
            <a:xfrm>
              <a:off x="6934320" y="3048120"/>
              <a:ext cx="609480" cy="609480"/>
            </a:xfrm>
            <a:prstGeom prst="ellipse">
              <a:avLst/>
            </a:prstGeom>
            <a:solidFill>
              <a:srgbClr val="0f116a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553080" y="2666880"/>
              <a:ext cx="1371600" cy="1371600"/>
            </a:xfrm>
            <a:prstGeom prst="ellipse">
              <a:avLst/>
            </a:prstGeom>
            <a:noFill/>
            <a:ln w="22320">
              <a:solidFill>
                <a:srgbClr val="0f116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095880" y="2209680"/>
              <a:ext cx="2286000" cy="2286000"/>
            </a:xfrm>
            <a:prstGeom prst="ellipse">
              <a:avLst/>
            </a:prstGeom>
            <a:noFill/>
            <a:ln w="22320">
              <a:solidFill>
                <a:srgbClr val="0f116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086600" y="2514600"/>
              <a:ext cx="228600" cy="2286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086600" y="3886200"/>
              <a:ext cx="228600" cy="2286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934320" y="2133720"/>
              <a:ext cx="228600" cy="2286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15200" y="2133720"/>
              <a:ext cx="228600" cy="2286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15200" y="4343400"/>
              <a:ext cx="228600" cy="2286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934320" y="4343400"/>
              <a:ext cx="228600" cy="2286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943600" y="3048120"/>
              <a:ext cx="228600" cy="2286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943600" y="3352680"/>
              <a:ext cx="228600" cy="2286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229600" y="3048120"/>
              <a:ext cx="228600" cy="2286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229600" y="3352680"/>
              <a:ext cx="228600" cy="2286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638680" y="1752480"/>
              <a:ext cx="3200400" cy="3200400"/>
            </a:xfrm>
            <a:prstGeom prst="ellipse">
              <a:avLst/>
            </a:prstGeom>
            <a:noFill/>
            <a:ln w="22320">
              <a:solidFill>
                <a:srgbClr val="0f116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686800" y="3048120"/>
              <a:ext cx="228600" cy="2286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686800" y="3352680"/>
              <a:ext cx="228600" cy="2286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934320" y="1676520"/>
              <a:ext cx="228600" cy="2286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315200" y="1676520"/>
              <a:ext cx="228600" cy="2286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315200" y="4800600"/>
              <a:ext cx="228600" cy="2286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934320" y="4800600"/>
              <a:ext cx="228600" cy="2286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486400" y="3048120"/>
              <a:ext cx="228600" cy="2286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486400" y="3352680"/>
              <a:ext cx="228600" cy="2286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162" name=""/>
          <p:cNvSpPr/>
          <p:nvPr/>
        </p:nvSpPr>
        <p:spPr>
          <a:xfrm>
            <a:off x="609480" y="68580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Bonding properties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609480" y="1447920"/>
            <a:ext cx="5029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Effect of electrons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116a"/>
                </a:solidFill>
                <a:latin typeface="Arial"/>
              </a:rPr>
              <a:t>chemical behavior of an atom depends on its electron arrangement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116a"/>
                </a:solidFill>
                <a:latin typeface="Arial"/>
              </a:rPr>
              <a:t>depends on the number of electrons in its outermost shell, the 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valence shell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018840" y="5334120"/>
            <a:ext cx="2517120" cy="885960"/>
          </a:xfrm>
          <a:prstGeom prst="rect">
            <a:avLst/>
          </a:prstGeom>
          <a:solidFill>
            <a:srgbClr val="ffcc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How does this </a:t>
            </a:r>
            <a:br>
              <a:rPr sz="2600"/>
            </a:b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atom behave?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68580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Bonding properties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1014480" y="3048120"/>
            <a:ext cx="3276000" cy="3352680"/>
            <a:chOff x="1014480" y="3048120"/>
            <a:chExt cx="3276000" cy="3352680"/>
          </a:xfrm>
        </p:grpSpPr>
        <p:sp>
          <p:nvSpPr>
            <p:cNvPr id="167" name=""/>
            <p:cNvSpPr/>
            <p:nvPr/>
          </p:nvSpPr>
          <p:spPr>
            <a:xfrm>
              <a:off x="2309400" y="4419720"/>
              <a:ext cx="609480" cy="609480"/>
            </a:xfrm>
            <a:prstGeom prst="ellipse">
              <a:avLst/>
            </a:prstGeom>
            <a:solidFill>
              <a:srgbClr val="0f116a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928520" y="4038480"/>
              <a:ext cx="1371240" cy="1371600"/>
            </a:xfrm>
            <a:prstGeom prst="ellipse">
              <a:avLst/>
            </a:prstGeom>
            <a:noFill/>
            <a:ln w="22320">
              <a:solidFill>
                <a:srgbClr val="0f116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471320" y="3581280"/>
              <a:ext cx="2285640" cy="2286000"/>
            </a:xfrm>
            <a:prstGeom prst="ellipse">
              <a:avLst/>
            </a:prstGeom>
            <a:noFill/>
            <a:ln w="22320">
              <a:solidFill>
                <a:srgbClr val="0f116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462040" y="3886200"/>
              <a:ext cx="228240" cy="2286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462040" y="5257800"/>
              <a:ext cx="228240" cy="2286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09400" y="3505320"/>
              <a:ext cx="228240" cy="2286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90640" y="3505320"/>
              <a:ext cx="228240" cy="2286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690640" y="5715000"/>
              <a:ext cx="228240" cy="2286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309400" y="5715000"/>
              <a:ext cx="228240" cy="2286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319040" y="4419720"/>
              <a:ext cx="228240" cy="2286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319040" y="4724280"/>
              <a:ext cx="228240" cy="2286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605040" y="4419720"/>
              <a:ext cx="228240" cy="2286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605040" y="4724280"/>
              <a:ext cx="228240" cy="2286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014480" y="3124080"/>
              <a:ext cx="3200040" cy="3200400"/>
            </a:xfrm>
            <a:prstGeom prst="ellipse">
              <a:avLst/>
            </a:prstGeom>
            <a:noFill/>
            <a:ln w="22320">
              <a:solidFill>
                <a:srgbClr val="0f116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062240" y="4419720"/>
              <a:ext cx="228240" cy="2286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062240" y="4724280"/>
              <a:ext cx="228240" cy="2286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400" y="3048120"/>
              <a:ext cx="228240" cy="2286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690640" y="3048120"/>
              <a:ext cx="228240" cy="2286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690640" y="6172200"/>
              <a:ext cx="228240" cy="2286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309400" y="6172200"/>
              <a:ext cx="228240" cy="2286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609480" y="1447920"/>
            <a:ext cx="838224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Effect of electrons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116a"/>
                </a:solidFill>
                <a:latin typeface="Arial"/>
              </a:rPr>
              <a:t>chemical behavior of an atom depends on number of electrons in its outermost shell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809640" y="6460200"/>
            <a:ext cx="3687480" cy="398880"/>
          </a:xfrm>
          <a:prstGeom prst="rect">
            <a:avLst/>
          </a:prstGeom>
          <a:solidFill>
            <a:srgbClr val="ffcc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How does this atom behave?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104080" y="6460200"/>
            <a:ext cx="3687480" cy="398880"/>
          </a:xfrm>
          <a:prstGeom prst="rect">
            <a:avLst/>
          </a:prstGeom>
          <a:solidFill>
            <a:srgbClr val="ffcc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How does this atom behave?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5308560" y="3124080"/>
            <a:ext cx="3200400" cy="3276720"/>
            <a:chOff x="5308560" y="3124080"/>
            <a:chExt cx="3200400" cy="3276720"/>
          </a:xfrm>
        </p:grpSpPr>
        <p:sp>
          <p:nvSpPr>
            <p:cNvPr id="191" name=""/>
            <p:cNvSpPr/>
            <p:nvPr/>
          </p:nvSpPr>
          <p:spPr>
            <a:xfrm>
              <a:off x="6603840" y="4419720"/>
              <a:ext cx="609840" cy="609480"/>
            </a:xfrm>
            <a:prstGeom prst="ellipse">
              <a:avLst/>
            </a:prstGeom>
            <a:solidFill>
              <a:srgbClr val="0f116a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222960" y="4038480"/>
              <a:ext cx="1371600" cy="1371600"/>
            </a:xfrm>
            <a:prstGeom prst="ellipse">
              <a:avLst/>
            </a:prstGeom>
            <a:noFill/>
            <a:ln w="22320">
              <a:solidFill>
                <a:srgbClr val="0f116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765760" y="3581280"/>
              <a:ext cx="2286000" cy="2286000"/>
            </a:xfrm>
            <a:prstGeom prst="ellipse">
              <a:avLst/>
            </a:prstGeom>
            <a:noFill/>
            <a:ln w="22320">
              <a:solidFill>
                <a:srgbClr val="0f116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756480" y="3886200"/>
              <a:ext cx="228600" cy="2286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756480" y="5257800"/>
              <a:ext cx="228600" cy="2286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603840" y="3505320"/>
              <a:ext cx="228600" cy="2286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985080" y="3505320"/>
              <a:ext cx="228600" cy="2286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985080" y="5715000"/>
              <a:ext cx="228600" cy="2286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603840" y="5715000"/>
              <a:ext cx="228600" cy="2286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613480" y="4419720"/>
              <a:ext cx="228600" cy="2286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613480" y="4724280"/>
              <a:ext cx="228600" cy="2286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899480" y="4419720"/>
              <a:ext cx="228600" cy="2286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899480" y="4724280"/>
              <a:ext cx="228600" cy="2286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308560" y="3124080"/>
              <a:ext cx="3200400" cy="3200400"/>
            </a:xfrm>
            <a:prstGeom prst="ellipse">
              <a:avLst/>
            </a:prstGeom>
            <a:noFill/>
            <a:ln w="22320">
              <a:solidFill>
                <a:srgbClr val="0f116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985080" y="6172200"/>
              <a:ext cx="228600" cy="2286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603840" y="6172200"/>
              <a:ext cx="228600" cy="2286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Elements &amp; their valence shells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rcRect l="0" t="0" r="0" b="4574"/>
          <a:stretch/>
        </p:blipFill>
        <p:spPr>
          <a:xfrm>
            <a:off x="152280" y="1371600"/>
            <a:ext cx="8915400" cy="480060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2057400" y="1600200"/>
            <a:ext cx="5486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Elements in the same </a:t>
            </a:r>
            <a:r>
              <a:rPr b="1" lang="en-US" sz="2400" spc="-1" strike="noStrike" u="sng">
                <a:solidFill>
                  <a:srgbClr val="0f116a"/>
                </a:solidFill>
                <a:uFillTx/>
                <a:latin typeface="Arial"/>
              </a:rPr>
              <a:t>row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 have </a:t>
            </a:r>
            <a:br>
              <a:rPr sz="2400"/>
            </a:b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the same </a:t>
            </a:r>
            <a:r>
              <a:rPr b="1" lang="en-US" sz="2400" spc="-1" strike="noStrike" u="sng">
                <a:solidFill>
                  <a:srgbClr val="0f116a"/>
                </a:solidFill>
                <a:uFillTx/>
                <a:latin typeface="Arial"/>
              </a:rPr>
              <a:t>number of shell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Elements &amp; their valence shells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rcRect l="0" t="0" r="0" b="4574"/>
          <a:stretch/>
        </p:blipFill>
        <p:spPr>
          <a:xfrm>
            <a:off x="152280" y="1371600"/>
            <a:ext cx="8915400" cy="480060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2057400" y="1600200"/>
            <a:ext cx="5486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Elements in the same </a:t>
            </a:r>
            <a:r>
              <a:rPr b="1" lang="en-US" sz="2400" spc="-1" strike="noStrike" u="sng">
                <a:solidFill>
                  <a:srgbClr val="0f116a"/>
                </a:solidFill>
                <a:uFillTx/>
                <a:latin typeface="Arial"/>
              </a:rPr>
              <a:t>column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 have the </a:t>
            </a:r>
            <a:r>
              <a:rPr b="1" lang="en-US" sz="2400" spc="-1" strike="noStrike" u="sng">
                <a:solidFill>
                  <a:srgbClr val="0f116a"/>
                </a:solidFill>
                <a:uFillTx/>
                <a:latin typeface="Arial"/>
              </a:rPr>
              <a:t>same valence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 &amp; similar chemical propertie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986600" y="1523880"/>
            <a:ext cx="960480" cy="4572000"/>
          </a:xfrm>
          <a:prstGeom prst="rect">
            <a:avLst/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914400" y="1523880"/>
            <a:ext cx="960480" cy="4572000"/>
          </a:xfrm>
          <a:prstGeom prst="rect">
            <a:avLst/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010280" y="3048120"/>
            <a:ext cx="960480" cy="3047760"/>
          </a:xfrm>
          <a:prstGeom prst="rect">
            <a:avLst/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019920" y="3048120"/>
            <a:ext cx="960480" cy="3047760"/>
          </a:xfrm>
          <a:prstGeom prst="rect">
            <a:avLst/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936800" y="3048120"/>
            <a:ext cx="960480" cy="3047760"/>
          </a:xfrm>
          <a:prstGeom prst="rect">
            <a:avLst/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3" dur="50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6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3" dur="50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7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Elements &amp; their valence shells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rcRect l="0" t="0" r="0" b="4574"/>
          <a:stretch/>
        </p:blipFill>
        <p:spPr>
          <a:xfrm>
            <a:off x="152280" y="1371600"/>
            <a:ext cx="8915400" cy="480060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2057400" y="1600200"/>
            <a:ext cx="57913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Moving from left to right, each element has a sequential addition of electrons (and protons)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hemical reactivity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Atoms tend to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Complete a partially filled outer (valence) electron shell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or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Empty a partially filled outer (valence) </a:t>
            </a:r>
            <a:br>
              <a:rPr sz="2800"/>
            </a:b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electron shell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This tendency drives chemical reactions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Ionic bonds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rcRect l="0" t="2268" r="0" b="7044"/>
          <a:stretch/>
        </p:blipFill>
        <p:spPr>
          <a:xfrm>
            <a:off x="990720" y="1981080"/>
            <a:ext cx="7086600" cy="26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Ionic bonds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Transfer of an electron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orms + &amp; - ions 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+  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=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  cation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–  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=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  anion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0f116a"/>
                </a:solidFill>
                <a:uFillTx/>
                <a:latin typeface="Arial"/>
              </a:rPr>
              <a:t>Weak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bond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rcRect l="0" t="2268" r="0" b="7044"/>
          <a:stretch/>
        </p:blipFill>
        <p:spPr>
          <a:xfrm>
            <a:off x="1600200" y="4343400"/>
            <a:ext cx="6095880" cy="22795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5029200" y="2895480"/>
            <a:ext cx="3803760" cy="14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284040">
              <a:lnSpc>
                <a:spcPct val="100000"/>
              </a:lnSpc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example: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  <a:p>
            <a:pPr lvl="1" marL="746280" indent="-289080">
              <a:lnSpc>
                <a:spcPct val="10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salt = dissolves easily in water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556960" y="456840"/>
            <a:ext cx="358992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Let’s go to the video tape!”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6f89f7"/>
                </a:solidFill>
                <a:uFillTx/>
                <a:latin typeface="Arial"/>
                <a:hlinkClick r:id="rId2"/>
              </a:rPr>
              <a:t>(play movie here)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ovalent bonds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838080" y="13716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Two atoms need an electron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hare a pair of electrons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0f116a"/>
                </a:solidFill>
                <a:uFillTx/>
                <a:latin typeface="Arial"/>
              </a:rPr>
              <a:t>Strong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bond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both atoms holding onto the electrons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orms molecules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example: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water = takes energy to separate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rcRect l="0" t="0" r="0" b="82230"/>
          <a:stretch/>
        </p:blipFill>
        <p:spPr>
          <a:xfrm>
            <a:off x="1295280" y="3809880"/>
            <a:ext cx="762012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Double covalent bonds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Two atoms can share more than one pair of electrons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double bonds (2 pairs of electrons)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triple bonds (3 pairs of electrons)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0f116a"/>
                </a:solidFill>
                <a:uFillTx/>
                <a:latin typeface="Arial"/>
              </a:rPr>
              <a:t>Very strong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bonds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rcRect l="0" t="16661" r="0" b="64460"/>
          <a:stretch/>
        </p:blipFill>
        <p:spPr>
          <a:xfrm>
            <a:off x="676440" y="4070520"/>
            <a:ext cx="7791120" cy="172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Why are we studying chemistry?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Biology has chemistry at its foundation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52280" y="2895480"/>
            <a:ext cx="4980240" cy="37339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334120" y="3352680"/>
            <a:ext cx="3733560" cy="2800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Multiple covalent bonds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38080" y="1371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1 atom can form covalent bonds with two or more other atoms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forms larger molecules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ex. 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carbon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rcRect l="0" t="63213" r="0" b="2998"/>
          <a:stretch/>
        </p:blipFill>
        <p:spPr>
          <a:xfrm>
            <a:off x="685800" y="3633840"/>
            <a:ext cx="777240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Polar covalent bonds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Pair of electrons not shared equally by 2 atoms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Water = O  +  H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rcRect l="9598" t="5666" r="11683" b="6494"/>
          <a:stretch/>
        </p:blipFill>
        <p:spPr>
          <a:xfrm>
            <a:off x="5715000" y="3886200"/>
            <a:ext cx="3124080" cy="236232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838080" y="3048120"/>
            <a:ext cx="472464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oxygen has stronger “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attraction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” for the shared electrons than hydrogen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oxygen has higher 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electronegativity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Polar covalent bonds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2 hydrogens in the water molecule form an angle 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Water molecule is </a:t>
            </a:r>
            <a:r>
              <a:rPr b="1" lang="en-US" sz="3000" spc="-1" strike="noStrike" u="sng">
                <a:solidFill>
                  <a:srgbClr val="660066"/>
                </a:solidFill>
                <a:uFillTx/>
                <a:latin typeface="Arial"/>
              </a:rPr>
              <a:t>polar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oxygen end is –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hydrogen end is +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Leads to many </a:t>
            </a:r>
            <a:br>
              <a:rPr sz="3000"/>
            </a:b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interesting properties </a:t>
            </a:r>
            <a:br>
              <a:rPr sz="3000"/>
            </a:b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of water….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rcRect l="9598" t="5666" r="11683" b="6494"/>
          <a:stretch/>
        </p:blipFill>
        <p:spPr>
          <a:xfrm>
            <a:off x="5715000" y="3886200"/>
            <a:ext cx="3124080" cy="23623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-2520" y="6216120"/>
            <a:ext cx="3589920" cy="642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Let’s go to the video tape!”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6f89f7"/>
                </a:solidFill>
                <a:uFillTx/>
                <a:latin typeface="Arial"/>
                <a:hlinkClick r:id="rId2"/>
              </a:rPr>
              <a:t>(play movie here)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Hydrogen bonds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5029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Positive H atom in </a:t>
            </a:r>
            <a:br>
              <a:rPr sz="3000"/>
            </a:b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1 water molecule is attracted to negative O in another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an occur wherever an </a:t>
            </a:r>
            <a:br>
              <a:rPr sz="3000"/>
            </a:b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-OH exists in a larger molecule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0f116a"/>
                </a:solidFill>
                <a:uFillTx/>
                <a:latin typeface="Arial"/>
              </a:rPr>
              <a:t>Weak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bonds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6019920" y="1600200"/>
            <a:ext cx="2770200" cy="37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Reductionist view of biology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837720" y="137160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Matter is made of atoms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Life requires ~25 chemical elements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Atomic structure determines behavior of an element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Atoms combine by chemical bonding to form molecules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Weak chemical bonds play important roles in chemistry of life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A molecule’s biological function is related to its shape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Chemical reactions make &amp; break chemical bonds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480" y="28195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Any Questions??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761760" y="1676520"/>
            <a:ext cx="78483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Everything is made of matter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Matter is made of atoms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Atoms are made of: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protons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mass of 1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     nucleus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neutrons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0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mass of 1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     nucleus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electrons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- 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mass &lt;&lt;1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     orbits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Different kinds of atoms = elements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The Basics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6705720" y="457200"/>
            <a:ext cx="2336760" cy="23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The World of Elements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838080" y="1371600"/>
            <a:ext cx="7855200" cy="53802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1095480" y="1773360"/>
            <a:ext cx="411120" cy="457200"/>
          </a:xfrm>
          <a:prstGeom prst="rect">
            <a:avLst/>
          </a:prstGeom>
          <a:solidFill>
            <a:srgbClr val="ff0000">
              <a:alpha val="60000"/>
            </a:srgbClr>
          </a:solidFill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89720" y="2257560"/>
            <a:ext cx="411120" cy="457200"/>
          </a:xfrm>
          <a:prstGeom prst="rect">
            <a:avLst/>
          </a:prstGeom>
          <a:solidFill>
            <a:srgbClr val="ff0000">
              <a:alpha val="60000"/>
            </a:srgbClr>
          </a:solidFill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315200" y="2257560"/>
            <a:ext cx="411120" cy="457200"/>
          </a:xfrm>
          <a:prstGeom prst="rect">
            <a:avLst/>
          </a:prstGeom>
          <a:solidFill>
            <a:srgbClr val="ff0000">
              <a:alpha val="60000"/>
            </a:srgbClr>
          </a:solidFill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934320" y="2257560"/>
            <a:ext cx="411120" cy="457200"/>
          </a:xfrm>
          <a:prstGeom prst="rect">
            <a:avLst/>
          </a:prstGeom>
          <a:solidFill>
            <a:srgbClr val="ff0000">
              <a:alpha val="60000"/>
            </a:srgbClr>
          </a:solidFill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315200" y="2743200"/>
            <a:ext cx="411120" cy="457200"/>
          </a:xfrm>
          <a:prstGeom prst="rect">
            <a:avLst/>
          </a:prstGeom>
          <a:solidFill>
            <a:srgbClr val="ff0000">
              <a:alpha val="60000"/>
            </a:srgbClr>
          </a:solidFill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34320" y="2743200"/>
            <a:ext cx="411120" cy="457200"/>
          </a:xfrm>
          <a:prstGeom prst="rect">
            <a:avLst/>
          </a:prstGeom>
          <a:solidFill>
            <a:srgbClr val="ff0000">
              <a:alpha val="60000"/>
            </a:srgbClr>
          </a:solidFill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508040" y="2743200"/>
            <a:ext cx="411120" cy="457200"/>
          </a:xfrm>
          <a:prstGeom prst="rect">
            <a:avLst/>
          </a:prstGeom>
          <a:solidFill>
            <a:srgbClr val="ff0000">
              <a:alpha val="60000"/>
            </a:srgbClr>
          </a:solidFill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095480" y="2743200"/>
            <a:ext cx="411120" cy="457200"/>
          </a:xfrm>
          <a:prstGeom prst="rect">
            <a:avLst/>
          </a:prstGeom>
          <a:solidFill>
            <a:srgbClr val="ff0000">
              <a:alpha val="60000"/>
            </a:srgbClr>
          </a:solidFill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095480" y="3216240"/>
            <a:ext cx="411120" cy="457200"/>
          </a:xfrm>
          <a:prstGeom prst="rect">
            <a:avLst/>
          </a:prstGeom>
          <a:solidFill>
            <a:srgbClr val="ff0000">
              <a:alpha val="60000"/>
            </a:srgbClr>
          </a:solidFill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508040" y="3216240"/>
            <a:ext cx="411120" cy="457200"/>
          </a:xfrm>
          <a:prstGeom prst="rect">
            <a:avLst/>
          </a:prstGeom>
          <a:solidFill>
            <a:srgbClr val="ff0000">
              <a:alpha val="60000"/>
            </a:srgbClr>
          </a:solidFill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5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500"/>
                            </p:stCondLst>
                            <p:childTnLst>
                              <p:par>
                                <p:cTn id="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3000"/>
                            </p:stCondLst>
                            <p:childTnLst>
                              <p:par>
                                <p:cTn id="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350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4000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4500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Models of atoms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7583"/>
          <a:stretch/>
        </p:blipFill>
        <p:spPr>
          <a:xfrm>
            <a:off x="1295280" y="1447920"/>
            <a:ext cx="6483600" cy="243828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3886200" y="4191120"/>
            <a:ext cx="2413080" cy="241272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370680" y="627660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c)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660066"/>
                </a:solidFill>
                <a:latin typeface="Arial"/>
              </a:rPr>
              <a:t>Atomic structure determines behavior</a:t>
            </a:r>
            <a:endParaRPr b="1" lang="en-US" sz="33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The number of protons in an atom determines the element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# of protons = atomic number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this also tells you # of electrons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All atoms of an element have same chemical properties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all behave the same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properties don’t change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6629400" y="4343400"/>
            <a:ext cx="2336760" cy="23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660066"/>
                </a:solidFill>
                <a:latin typeface="Arial"/>
              </a:rPr>
              <a:t>Life requires ~25 chemical elements</a:t>
            </a:r>
            <a:endParaRPr b="1" lang="en-US" sz="33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About 25 elements are essential for life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116a"/>
                </a:solidFill>
                <a:latin typeface="Arial"/>
              </a:rPr>
              <a:t>Four elements make up 96% of living matter: 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• 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carbon (C)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• hydrogen (H)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• 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oxygen (O)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• nitrogen (N)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116a"/>
                </a:solidFill>
                <a:latin typeface="Arial"/>
              </a:rPr>
              <a:t>Four elements make up most of remaining 4%: 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• 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phosphorus (P)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• calcium (Ca)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• 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sulfur (S)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• potassium (K)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rcRect l="0" t="0" r="0" b="6690"/>
          <a:stretch/>
        </p:blipFill>
        <p:spPr>
          <a:xfrm>
            <a:off x="1371600" y="380880"/>
            <a:ext cx="642456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Isotopes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Different number of neutrons (heavier)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ome are unstable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nuclear reactions / decay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plit off neutrons &amp;/or protons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radioactivity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Biological too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Biological hazard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rcRect l="0" t="7660" r="0" b="5531"/>
          <a:stretch/>
        </p:blipFill>
        <p:spPr>
          <a:xfrm>
            <a:off x="5410080" y="3657600"/>
            <a:ext cx="3281400" cy="27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20:13:53Z</dcterms:created>
  <dc:creator>Kim B. Foglia</dc:creator>
  <dc:description>All Rights Reserved. Copyright 2003. WD Interactive.</dc:description>
  <cp:keywords>WD Interactive Web Development</cp:keywords>
  <dc:language>en-US</dc:language>
  <cp:lastModifiedBy>Kim Foglia</cp:lastModifiedBy>
  <cp:lastPrinted>2005-09-12T00:38:48Z</cp:lastPrinted>
  <dcterms:modified xsi:type="dcterms:W3CDTF">2005-09-12T00:39:01Z</dcterms:modified>
  <cp:revision>145</cp:revision>
  <dc:subject>Introduction to the Internet &amp; Web sites</dc:subject>
  <dc:title>Small Business Success on the Web</dc:title>
</cp:coreProperties>
</file>